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AA1D-1031-4F66-B714-A82E54E54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7BF1-7804-4145-AEA6-4497D436B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0CA5-2ED4-4E6E-B588-D4C18BA60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2A6D-6377-4F79-BDD7-02F41DE6F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66C0-D5EC-42EB-B933-86CB91478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7C93-F1B8-43DD-B1CF-36C0C5466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B236-A50E-46B2-8FCC-EDBEC2147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985A-3D06-4F6E-921F-43C9B1494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0986-3D05-435B-889D-5324C0CFD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CF8C-0540-4967-BB53-31AA4BDF0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34C4-2695-4D25-81DE-AD69E3724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9587-AA2F-456B-9F74-53F621549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3FA93-3238-424B-8F5A-E810F333203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mbedded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slide contains an embedded ob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a simple harmless ASCII text f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Object 2" descr=""/>
          <p:cNvPicPr/>
          <p:nvPr/>
        </p:nvPicPr>
        <p:blipFill>
          <a:blip r:embed="rId1"/>
          <a:stretch/>
        </p:blipFill>
        <p:spPr>
          <a:xfrm>
            <a:off x="3132000" y="3860640"/>
            <a:ext cx="2955960" cy="12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18T13:13:30Z</dcterms:created>
  <dc:creator>user</dc:creator>
  <dc:description/>
  <dc:language>en-US</dc:language>
  <cp:lastModifiedBy>user</cp:lastModifiedBy>
  <dcterms:modified xsi:type="dcterms:W3CDTF">2018-01-18T13:15:08Z</dcterms:modified>
  <cp:revision>1</cp:revision>
  <dc:subject/>
  <dc:title>Embedded Objects</dc:title>
</cp:coreProperties>
</file>