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FF08A-C2F8-4DED-83E2-BF04C4593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837EF-424F-4B6F-944C-76018BA9E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76D68-9DC0-4716-A9BC-6125EF9F5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D12F4-1936-47CB-AE4B-A55750D42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1E1A2-37D9-43FF-B736-F2087D9E5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1D5F8-2D1E-4E67-9788-0FB481F14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C1044-D913-4EAC-83ED-B85A9B7EC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A65AD-4E68-4379-BBDE-61B2C3928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117EB-0EA4-4AE4-824D-B022C3301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7CE0B-11A4-45DF-98FE-9C6CBB21A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5599E-0C70-4160-800C-7191CBD05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2C1CE-EC73-467D-89B1-4CF790029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DF9A6-BE00-47CC-B1E0-1FBEECC90A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356000" y="3645000"/>
            <a:ext cx="459000" cy="45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1-30T10:21:24Z</dcterms:created>
  <dc:creator>user</dc:creator>
  <dc:description/>
  <dc:language>en-US</dc:language>
  <cp:lastModifiedBy>user</cp:lastModifiedBy>
  <dcterms:modified xsi:type="dcterms:W3CDTF">2017-11-30T10:21:38Z</dcterms:modified>
  <cp:revision>1</cp:revision>
  <dc:subject/>
  <dc:title>Test</dc:title>
</cp:coreProperties>
</file>