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010E-D28C-4844-A1D3-FD5BD7AE4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3B4E-BC1A-49D6-88B5-F1052848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36B5-B7A1-4A50-92A9-212CC4F93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6A0E-79EB-4DE8-A353-8C4D009C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5F7A-8139-44A2-94C8-04B5DF81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05CD-D21A-423E-9DA4-0FE2EBB3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1053-0B34-4E1C-97FB-48FA9272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42FF-3DEC-43C6-B5F2-C698D0EB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1478-A51E-4B03-8967-A4FD0DEE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491D-AD46-4467-B7E1-A4B172BD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8E21-B86A-4058-991C-0FF2254B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A75B-DBF6-447D-86EC-22BA5236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DBF4-0F25-4D7D-B357-69DF1C5884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6:25:03Z</dcterms:created>
  <dc:creator>Michael McCandless</dc:creator>
  <dc:description/>
  <dc:language>en-US</dc:language>
  <cp:lastModifiedBy>Lukas Graf</cp:lastModifiedBy>
  <dcterms:modified xsi:type="dcterms:W3CDTF">2014-09-01T10:23:50Z</dcterms:modified>
  <cp:revision>2</cp:revision>
  <dc:subject/>
  <dc:title>Slide 1</dc:title>
</cp:coreProperties>
</file>